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E5A-D2A8-427E-86DF-45E446E9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65A-D059-41EB-81CC-9630ED48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129-50A8-4AD6-B497-89C43406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6EF-100A-43F3-B8F6-F8699EEA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3EC7-8FF5-4918-B0C6-2F5BB16A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BCD6-D27A-4AE6-8BC5-1597AFC6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E460-D90F-4572-BBFB-0993006A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B473-325D-462A-B7A1-4F54E2BD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8D8F-050A-435E-8EDE-31C56BC9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77C3-D794-45CB-AE32-EA1763C1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4942-B463-49F7-A6F8-1CC3BAA5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AC4-53C6-4F7F-AC23-898EB805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9856-CD9D-413B-AD02-D3D19977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0571-4F33-4D1D-9EA3-72A13598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1CEC-B1D2-4573-8A59-8DB0170D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B000-3E87-425F-9E88-CAE4C263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6F40-6628-4D6F-9F77-2AAABEA5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CF7E2-F661-4F68-8F60-59880A99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32824-83C5-4FFE-A91F-AEA301E9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B8923-8C10-47CE-9EBD-CB6F81B9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5F58E-2C83-41C2-AA69-CD7197BD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963A8-19B1-4E1E-97B4-7F51C5A9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823-C066-4EFE-BAE3-64238F00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6E836-8419-48B6-BB27-C234C2CC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1E26A-AFB5-4CC0-AC4F-4A3B359F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336E2-7D1D-41E3-BECC-A3963A8D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410D1-426F-4346-BA14-A4A7ABF0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5976F-7D25-47CA-9F0C-AAED2EDA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44623-EA10-4AA1-966D-6A92F0C9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ECD4B-4BED-4913-AFA5-E18DE237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48BC9-ACA6-4AA4-94AA-4003D84A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E03B4-BBB7-4DF7-8CD2-D4AA98E7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996BC-82E3-412A-AF65-3708E191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821-D26F-451D-A18A-B795FEA5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51D8B-E991-46B8-BD03-389D66EB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A37F8-F78E-4843-BA47-AB822DD6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26760-2041-43FB-913B-A0EBB0E7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8AA7C-F119-4C06-9C80-A81A472C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34C26-3EB8-4F9C-97BD-E4E268D2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2DC7-2005-4389-9270-CD7BD3A3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DF17F-8625-42BF-AAB3-403DB77D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E33E7-B604-409F-92F7-000CA149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5BA35-4DB0-4E34-A1C2-E91DE793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144-FB79-4DA0-9EA3-F0A7F9AC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002-33CA-41AE-8CD1-5853F726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EBF-C20D-43C1-99CE-EAC2F4C1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CB7-5E15-4FC4-80CE-560E2F8D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E61-2131-41BF-B580-163FBAED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DFA3-72B0-4E95-9E02-EADCD77905DA}" type="slidenum">
              <a:rPr b="0" lang="en-A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1394-2FEB-4670-AC26-F32786D362F0}" type="slidenum">
              <a:rPr b="0" lang="en-A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929C-C8FF-4B63-BB52-83548EC28AFC}" type="slidenum">
              <a:rPr b="0" lang="en-A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4F72-E186-4CFC-9502-39B5ABF272DB}" type="slidenum">
              <a:rPr b="0" lang="en-A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395280" y="1341360"/>
            <a:ext cx="8712360" cy="2158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6450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Discussion Photo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Arial"/>
              </a:rPr>
              <a:t>I’d like to show you some photos of volunteers at work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, please give your thoughts about the situation and the people, what you think of their contributions and of their motiva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Content Placeholder 3" descr="848205_37009186.jpg"/>
          <p:cNvPicPr/>
          <p:nvPr/>
        </p:nvPicPr>
        <p:blipFill>
          <a:blip r:embed="rId2"/>
          <a:stretch/>
        </p:blipFill>
        <p:spPr>
          <a:xfrm>
            <a:off x="1160640" y="1193760"/>
            <a:ext cx="6840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Content Placeholder 3" descr="544065_92208728.jpg"/>
          <p:cNvPicPr/>
          <p:nvPr/>
        </p:nvPicPr>
        <p:blipFill>
          <a:blip r:embed="rId2"/>
          <a:stretch/>
        </p:blipFill>
        <p:spPr>
          <a:xfrm>
            <a:off x="1143000" y="1249200"/>
            <a:ext cx="67834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Content Placeholder 3" descr="iStock_000004997847Medium.jpg"/>
          <p:cNvPicPr/>
          <p:nvPr/>
        </p:nvPicPr>
        <p:blipFill>
          <a:blip r:embed="rId2"/>
          <a:stretch/>
        </p:blipFill>
        <p:spPr>
          <a:xfrm>
            <a:off x="965160" y="1428840"/>
            <a:ext cx="71071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2:06:36Z</dcterms:created>
  <dc:creator>jbeardmore</dc:creator>
  <dc:description/>
  <dc:language>en-US</dc:language>
  <cp:lastModifiedBy>mviray-carlos</cp:lastModifiedBy>
  <dcterms:modified xsi:type="dcterms:W3CDTF">2008-02-28T02:22:08Z</dcterms:modified>
  <cp:revision>8</cp:revision>
  <dc:subject/>
  <dc:title>Images of Volunteers</dc:title>
</cp:coreProperties>
</file>